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C863-AEA8-4499-A6E2-AC8CCFBD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308-BD48-414E-B721-941540A5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; re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1F7-BC63-4342-9349-05142226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(or sugar);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C332-073F-489E-AFD9-F05F0E800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84B-DEF6-434F-A73D-11D053748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D7AB-6042-4DE2-9CCE-F8896D98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; identical (or exac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CF67-BD1A-4D38-BF40-BA8F4D87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thing of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grow into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s h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82A-780B-4D2F-A9B2-2EECE939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26A-068B-461A-85C9-72A80BA8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3A7-5153-4CA6-BDAB-CBEC3A2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D91-46ED-4AEB-923B-237D3CC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B7B-21AD-476C-9FFC-1B97FC0E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BBD-CB43-4BFB-A5CA-B7990EA4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ED9-A3F4-4AC2-89AA-961ED64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135-3346-428E-88F9-3AB18A6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6CA-0585-4D80-BCD1-F487F060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C9C-F66C-46C0-A764-554AEB8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7D9-1213-447B-A673-DB902E6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033-90F7-4DBB-B850-8297C76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5E9-12DE-42CB-9EDA-2F0A2EDD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C5B-B6BD-43A1-B3C6-BE3D58E63E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Cell Divi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nd m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4, #3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 m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Notability, Unit 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me me: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#, Last, First, Cell Divis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33600" y="3352680"/>
            <a:ext cx="4551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18472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 = Bundl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in the _________ (Hint: it stores the D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two reasons that cells need to di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 cells form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dent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(circle 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Narrow"/>
              </a:rPr>
              <a:t>Learning Targe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Arial"/>
              </a:rPr>
              <a:t>(fill it 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I know that cells divide to make more cells f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Maiandra GD"/>
              </a:rPr>
              <a:t>__________</a:t>
            </a: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Maiandra GD"/>
              </a:rPr>
              <a:t>__________</a:t>
            </a: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1430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rganelles are cell parts that have a specific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loroplast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akes ________ for plant using 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rge Central Vacuole (LCV)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res ________ for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362320" y="3456000"/>
            <a:ext cx="40384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nucleus is the organelle that contains the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’s very important because it holds all of the information:  it’s kind of like the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48769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Chart 1"/>
          <p:cNvGraphicFramePr/>
          <p:nvPr/>
        </p:nvGraphicFramePr>
        <p:xfrm>
          <a:off x="457200" y="1752480"/>
          <a:ext cx="8408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0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ell Cycle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= The life cycle of a cel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ch cell cycle turns one cell into _____ ce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264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tosis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process of one cell’s _______ dividing into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s allows the cell to make _________ copies of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cells go through the Cell Cyc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98760"/>
            <a:ext cx="88394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s must divide (make new cells)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n organism can get big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place missing, dead, old or worn ou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8"/>
          <p:cNvSpPr/>
          <p:nvPr/>
        </p:nvSpPr>
        <p:spPr>
          <a:xfrm>
            <a:off x="3886200" y="53352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6248520" y="403848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6248520" y="152388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685800" y="1447920"/>
            <a:ext cx="121932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 rot="1552800">
            <a:off x="5257800" y="1219320"/>
            <a:ext cx="1216080" cy="60948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 rot="12984000">
            <a:off x="2444400" y="5033520"/>
            <a:ext cx="1438200" cy="609840"/>
          </a:xfrm>
          <a:prstGeom prst="rightArrow">
            <a:avLst>
              <a:gd name="adj1" fmla="val 50000"/>
              <a:gd name="adj2" fmla="val 5895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 rot="5400000">
            <a:off x="6362280" y="316224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 rot="8730000">
            <a:off x="5485680" y="525744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 rot="16200000">
            <a:off x="1218960" y="29718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"/>
          <p:cNvSpPr/>
          <p:nvPr/>
        </p:nvSpPr>
        <p:spPr>
          <a:xfrm rot="20053800">
            <a:off x="2590920" y="1218960"/>
            <a:ext cx="1365120" cy="609480"/>
          </a:xfrm>
          <a:prstGeom prst="rightArrow">
            <a:avLst>
              <a:gd name="adj1" fmla="val 50000"/>
              <a:gd name="adj2" fmla="val 559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 rot="20188800">
            <a:off x="990360" y="3809520"/>
            <a:ext cx="274320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3733920" y="5105520"/>
            <a:ext cx="18288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981080" y="1905120"/>
            <a:ext cx="121932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3"/>
          <p:cNvGrpSpPr/>
          <p:nvPr/>
        </p:nvGrpSpPr>
        <p:grpSpPr>
          <a:xfrm>
            <a:off x="1956960" y="-176400"/>
            <a:ext cx="1724760" cy="1724760"/>
            <a:chOff x="1956960" y="-176400"/>
            <a:chExt cx="1724760" cy="1724760"/>
          </a:xfrm>
        </p:grpSpPr>
        <p:sp>
          <p:nvSpPr>
            <p:cNvPr id="81" name="AutoShape 40"/>
            <p:cNvSpPr/>
            <p:nvPr/>
          </p:nvSpPr>
          <p:spPr>
            <a:xfrm>
              <a:off x="2133720" y="0"/>
              <a:ext cx="1218960" cy="1371600"/>
            </a:xfrm>
            <a:prstGeom prst="wedgeEllipseCallout">
              <a:avLst>
                <a:gd name="adj1" fmla="val -59763"/>
                <a:gd name="adj2" fmla="val 100115"/>
              </a:avLst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1"/>
            <p:cNvSpPr/>
            <p:nvPr/>
          </p:nvSpPr>
          <p:spPr>
            <a:xfrm rot="15133800">
              <a:off x="2133360" y="0"/>
              <a:ext cx="1371600" cy="1371600"/>
            </a:xfrm>
            <a:prstGeom prst="wedgeEllipseCallout">
              <a:avLst>
                <a:gd name="adj1" fmla="val -39087"/>
                <a:gd name="adj2" fmla="val 72671"/>
              </a:avLst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2"/>
            <p:cNvSpPr/>
            <p:nvPr/>
          </p:nvSpPr>
          <p:spPr>
            <a:xfrm>
              <a:off x="2057400" y="380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TICALLY IDENTICAL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 each step of this process, changes are happening with the cell’s chromosom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36:54Z</dcterms:created>
  <dc:creator>ELemke</dc:creator>
  <dc:description/>
  <dc:language>en-US</dc:language>
  <cp:lastModifiedBy>User</cp:lastModifiedBy>
  <dcterms:modified xsi:type="dcterms:W3CDTF">2013-10-28T16:37:22Z</dcterms:modified>
  <cp:revision>65</cp:revision>
  <dc:subject/>
  <dc:title>MITOSIS</dc:title>
</cp:coreProperties>
</file>